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65DD-2C51-48BC-BCDA-469923469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1E9F-56FE-4F16-8224-5CC79F08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36C9-1B45-438A-836E-C9B867AE2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68F2-2865-4548-B237-8B14E148A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8E3F-F151-4EE8-BD81-619CFD76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1253-D1B4-4B50-9A50-3910CEE2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6D7C-B935-44EA-85D2-CB6129A1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2958-580D-4560-8E89-2BD983D5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77E5-3E86-4EEB-AC73-A9D3F6DF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8107-DF44-4245-B154-207EC815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0565-60F6-4ECA-A994-B15833B5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674D-4AF8-4176-9C77-B8B5A5BB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E181-6BEF-463C-B72D-57259D642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280" y="152280"/>
            <a:ext cx="88394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About the Program Annel2 (2003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veloped by: Arturo Le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he program “Annel2” computes the steady water surface pro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for circular, trapezoidal, rectangular and triangular chann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based on the Energy and Momentum equations. Gradually Va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Flows are solved by using the Standard Step Method and rapi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varied flows are computed by solving the Momentum equation.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friction loss method is chosen by the program according to wh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he flow is subcritical or supercritic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Some additional features of Annel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Locate hydraulic j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Handle horizontal and adverse slo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Correct the hydrostatic pressure for large slopes (chut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trial with increased roughnes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It can be an acceptable solu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11945" t="5051" r="4629" b="10768"/>
          <a:stretch/>
        </p:blipFill>
        <p:spPr>
          <a:xfrm>
            <a:off x="609480" y="1752480"/>
            <a:ext cx="8153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31896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ervoi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77616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ervoi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05320" y="30481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isting vertical al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762120"/>
            <a:ext cx="1600200" cy="60948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05720" y="1219320"/>
            <a:ext cx="1600200" cy="68580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 rot="12265800">
            <a:off x="2056680" y="1294920"/>
            <a:ext cx="1219320" cy="7632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00400" y="1523880"/>
            <a:ext cx="3809880" cy="7632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1143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816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1676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 0+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20574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+6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1981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+2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1981080"/>
            <a:ext cx="0" cy="1676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2057400"/>
            <a:ext cx="0" cy="19810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81680" y="2209680"/>
            <a:ext cx="0" cy="2971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3352680"/>
            <a:ext cx="106668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518148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3581280"/>
            <a:ext cx="8384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56840" y="335268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43600" y="4419720"/>
            <a:ext cx="1676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ope = 0.0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 = 0.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3429000"/>
            <a:ext cx="1676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ope = 0.0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 = 0.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0623600">
            <a:off x="6857640" y="335232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010280" y="3580920"/>
            <a:ext cx="0" cy="160020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10280" y="4114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5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2590920"/>
            <a:ext cx="8384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0623600">
            <a:off x="1828440" y="236196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28195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8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05320" y="793800"/>
            <a:ext cx="29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ck type:  Shale, except reach 0+250 – 0+400 (Gran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1600200"/>
            <a:ext cx="0" cy="251460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1600200"/>
            <a:ext cx="0" cy="3505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00400" y="3429000"/>
            <a:ext cx="8380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3962520"/>
            <a:ext cx="838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03848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33920" y="19051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+25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2224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+4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95480" y="3886200"/>
            <a:ext cx="1676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= 0.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 = 0.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3719520"/>
            <a:ext cx="1219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=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 = 0.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2286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066680" y="2438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2438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2133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10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5410080"/>
            <a:ext cx="868680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estion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d out an optimum vertical alignment for the trapezoidal channel,  considering that we ca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have a hydraulic jump in the reach founded 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ani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ock due to geotechnical conditions. Q = 20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s,  Bottom width  = 5 m (For all reaches), Side slope = 2 (For all reach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2590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76920" y="1600200"/>
            <a:ext cx="0" cy="251460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3962520"/>
            <a:ext cx="990360" cy="1218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4038480"/>
            <a:ext cx="16765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= 0.0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 = 0.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ran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23763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+45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 Trial (Existing Condition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11922" t="5051" r="6250" b="10768"/>
          <a:stretch/>
        </p:blipFill>
        <p:spPr>
          <a:xfrm>
            <a:off x="457200" y="1744560"/>
            <a:ext cx="822960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503280"/>
            <a:ext cx="624852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outputs of the program Annel2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e Supercritical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11892" t="4137" r="5409" b="10768"/>
          <a:stretch/>
        </p:blipFill>
        <p:spPr>
          <a:xfrm>
            <a:off x="609480" y="1219320"/>
            <a:ext cx="8077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ca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4081" t="3783" r="2040" b="3488"/>
          <a:stretch/>
        </p:blipFill>
        <p:spPr>
          <a:xfrm>
            <a:off x="380880" y="1219320"/>
            <a:ext cx="8534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0" y="503280"/>
            <a:ext cx="403848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nds -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3573" t="0" r="3697" b="8637"/>
          <a:stretch/>
        </p:blipFill>
        <p:spPr>
          <a:xfrm>
            <a:off x="304920" y="1219320"/>
            <a:ext cx="8458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nds – Channels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0" r="0" b="3045"/>
          <a:stretch/>
        </p:blipFill>
        <p:spPr>
          <a:xfrm>
            <a:off x="304920" y="1295280"/>
            <a:ext cx="853416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 in Circular Cross-Section Cond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11308" t="4867" r="5264" b="10768"/>
          <a:stretch/>
        </p:blipFill>
        <p:spPr>
          <a:xfrm>
            <a:off x="457200" y="1447920"/>
            <a:ext cx="8458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 rot="1912200">
            <a:off x="2362320" y="3124080"/>
            <a:ext cx="5410080" cy="152640"/>
          </a:xfrm>
          <a:custGeom>
            <a:avLst/>
            <a:gdLst>
              <a:gd name="textAreaLeft" fmla="*/ 0 w 5410080"/>
              <a:gd name="textAreaRight" fmla="*/ 5410440 w 5410080"/>
              <a:gd name="textAreaTop" fmla="*/ 19800 h 152640"/>
              <a:gd name="textAreaBottom" fmla="*/ 1328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903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servoi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5638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servoi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3808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AMPLE OF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19445" t="16518" r="33335" b="21750"/>
          <a:stretch/>
        </p:blipFill>
        <p:spPr>
          <a:xfrm>
            <a:off x="0" y="533520"/>
            <a:ext cx="3505320" cy="2593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029200" y="1828800"/>
            <a:ext cx="2187720" cy="1352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181480" y="4495680"/>
            <a:ext cx="3962520" cy="2376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581280" y="32004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rcular Cross-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3189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servoi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086600" y="776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servoi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762120"/>
            <a:ext cx="1600200" cy="60948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19320"/>
            <a:ext cx="1600200" cy="68580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 rot="12265800">
            <a:off x="2056680" y="1294920"/>
            <a:ext cx="1219320" cy="7632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1523880"/>
            <a:ext cx="3809880" cy="7632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1143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19954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 0+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21337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 0+25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9810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 0+05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33720" y="1981080"/>
            <a:ext cx="0" cy="2514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2057400"/>
            <a:ext cx="0" cy="2438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2209680"/>
            <a:ext cx="0" cy="2286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3352680"/>
            <a:ext cx="106668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4343400"/>
            <a:ext cx="411480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81680" y="3581280"/>
            <a:ext cx="8384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56840" y="335268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43400" y="4419720"/>
            <a:ext cx="1676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ope = 0.0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 = 0.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52480" y="3962520"/>
            <a:ext cx="1676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ope = 0.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 = 0.01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0623600">
            <a:off x="6857640" y="335232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010280" y="3580920"/>
            <a:ext cx="0" cy="83844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10280" y="38098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5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3124080"/>
            <a:ext cx="8384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0623600">
            <a:off x="1828440" y="289512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5248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28195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3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7621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ck type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an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86200" y="685800"/>
            <a:ext cx="32004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ck type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l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y low Resistance to Compr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152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of Application 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4572000"/>
            <a:ext cx="86868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out an optimum vertical alignment for the circular cross-section channel,  considering that we can not have a hydraulic jump in the reach founded 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ck due to geotechnical condi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= 20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meter = 6 m (For all reach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2529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10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28600" y="2819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30481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isting vertical al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 Trial (Existing Condition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11936" t="4867" r="4629" b="10768"/>
          <a:stretch/>
        </p:blipFill>
        <p:spPr>
          <a:xfrm>
            <a:off x="304920" y="1362240"/>
            <a:ext cx="8534160" cy="51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2T17:19:20Z</dcterms:created>
  <dc:creator>Arthur R. Schmidt, P.E., Ph.D.</dc:creator>
  <dc:description/>
  <dc:language>en-US</dc:language>
  <cp:lastModifiedBy>adminasleon</cp:lastModifiedBy>
  <dcterms:modified xsi:type="dcterms:W3CDTF">2007-10-29T05:15:11Z</dcterms:modified>
  <cp:revision>161</cp:revision>
  <dc:subject/>
  <dc:title>Upstream</dc:title>
</cp:coreProperties>
</file>