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3D8D-B58E-4019-A8FE-9C471330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69F2-1A27-41A9-9615-A596B4CA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7BFD-06C2-4FE5-94D7-A08C01020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F616-5C25-4555-9429-A7869D87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279B-221F-4120-BDE5-39FF8C97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F2E3-B8AE-457F-BB07-7946F281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1F85-3B3D-4D62-8241-A87317D3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B2CC-DB7C-4996-996F-33058421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24DA-4E9A-420C-A32A-6BB698CD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E043-D916-461F-AFD4-096C8170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37FF-B862-4A98-ABB4-9A0C6AB9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B8E8-484C-454E-816E-811EC352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DDDC-BFCB-4B02-9F64-1B6C5C3B9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280" y="15228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About the Program Annel2 (2003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veloped by: Arturo Le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he program “Annel2” computes the steady water surface pro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for circular, trapezoidal, rectangular and triangular chann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based on the Energy and Momentum equations. Gradually Va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Flows are solved by using the Standard Step Method and rapi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varied flows are computed by solving the Momentum equation.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friction loss method is chosen by the program according to wh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he flow is subcritical or supercritic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Some additional features of Annel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Locate hydraulic j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Handle horizontal and adverse slo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Correct the hydrostatic pressure for large slopes (chut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trial with increased roughnes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It can be an acceptable solu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11945" t="5051" r="4629" b="10768"/>
          <a:stretch/>
        </p:blipFill>
        <p:spPr>
          <a:xfrm>
            <a:off x="609480" y="1752480"/>
            <a:ext cx="8153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3189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ervoi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7761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ervoi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3048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sting vertical al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762120"/>
            <a:ext cx="1600200" cy="60948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05720" y="1219320"/>
            <a:ext cx="1600200" cy="68580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 rot="12265800">
            <a:off x="2056680" y="1294920"/>
            <a:ext cx="1219320" cy="763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1523880"/>
            <a:ext cx="3809880" cy="763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1143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816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1676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 0+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20574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+6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1981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+2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1981080"/>
            <a:ext cx="0" cy="1676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2057400"/>
            <a:ext cx="0" cy="19810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2209680"/>
            <a:ext cx="0" cy="2971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3352680"/>
            <a:ext cx="106668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518148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3581280"/>
            <a:ext cx="8384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56840" y="33526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4419720"/>
            <a:ext cx="1676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ope = 0.0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 = 0.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3429000"/>
            <a:ext cx="1676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ope = 0.0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 = 0.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0623600">
            <a:off x="6857640" y="335232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010280" y="3580920"/>
            <a:ext cx="0" cy="160020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10280" y="4114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5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590920"/>
            <a:ext cx="8384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0623600">
            <a:off x="1828440" y="236196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28195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8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05320" y="793800"/>
            <a:ext cx="29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ck type:  Shale, except reach 0+250 – 0+400 (Gran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1600200"/>
            <a:ext cx="0" cy="251460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1600200"/>
            <a:ext cx="0" cy="3505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3429000"/>
            <a:ext cx="8380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3962520"/>
            <a:ext cx="838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3848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19051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+25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2224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+4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3886200"/>
            <a:ext cx="1676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= 0.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 = 0.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3719520"/>
            <a:ext cx="1219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=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 = 0.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2286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066680" y="2438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2438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2133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10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5410080"/>
            <a:ext cx="868680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d out an optimum vertical alignment for the trapezoidal channel,  considering that we ca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have a hydraulic jump in the reach founded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ni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ock due to geotechnical conditions. Q = 20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s,  Bottom width  = 5 m (For all reaches), Side slope = 2 (For all reach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2590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1600200"/>
            <a:ext cx="0" cy="251460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3962520"/>
            <a:ext cx="990360" cy="121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4038480"/>
            <a:ext cx="16765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= 0.0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 = 0.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ran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23763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+45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 Trial (Existing Condition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11922" t="5051" r="6250" b="10768"/>
          <a:stretch/>
        </p:blipFill>
        <p:spPr>
          <a:xfrm>
            <a:off x="457200" y="1744560"/>
            <a:ext cx="822960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503280"/>
            <a:ext cx="624852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outputs of the program Annel2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e Supercritical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11892" t="4137" r="5409" b="10768"/>
          <a:stretch/>
        </p:blipFill>
        <p:spPr>
          <a:xfrm>
            <a:off x="609480" y="1219320"/>
            <a:ext cx="8077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c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4081" t="3783" r="2040" b="3488"/>
          <a:stretch/>
        </p:blipFill>
        <p:spPr>
          <a:xfrm>
            <a:off x="380880" y="1219320"/>
            <a:ext cx="8534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0" y="503280"/>
            <a:ext cx="403848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nds -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3573" t="0" r="3697" b="8637"/>
          <a:stretch/>
        </p:blipFill>
        <p:spPr>
          <a:xfrm>
            <a:off x="304920" y="1219320"/>
            <a:ext cx="8458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nds – Channel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0" r="0" b="3045"/>
          <a:stretch/>
        </p:blipFill>
        <p:spPr>
          <a:xfrm>
            <a:off x="304920" y="1295280"/>
            <a:ext cx="853416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 in Circular Cross-Section Cond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1308" t="4867" r="5264" b="10768"/>
          <a:stretch/>
        </p:blipFill>
        <p:spPr>
          <a:xfrm>
            <a:off x="457200" y="1447920"/>
            <a:ext cx="8458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 rot="1912200">
            <a:off x="2362320" y="3124080"/>
            <a:ext cx="5410080" cy="152640"/>
          </a:xfrm>
          <a:custGeom>
            <a:avLst/>
            <a:gdLst>
              <a:gd name="textAreaLeft" fmla="*/ 0 w 5410080"/>
              <a:gd name="textAreaRight" fmla="*/ 5410440 w 5410080"/>
              <a:gd name="textAreaTop" fmla="*/ 19800 h 152640"/>
              <a:gd name="textAreaBottom" fmla="*/ 1328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903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servoi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servoi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3808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AMPLE OF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19445" t="16518" r="33335" b="21750"/>
          <a:stretch/>
        </p:blipFill>
        <p:spPr>
          <a:xfrm>
            <a:off x="0" y="533520"/>
            <a:ext cx="3505320" cy="2593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029200" y="1828800"/>
            <a:ext cx="2187720" cy="1352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181480" y="4495680"/>
            <a:ext cx="3962520" cy="2376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581280" y="32004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rcular Cross-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3189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servoi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86600" y="776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servoi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762120"/>
            <a:ext cx="1600200" cy="60948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19320"/>
            <a:ext cx="1600200" cy="68580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 rot="12265800">
            <a:off x="2056680" y="1294920"/>
            <a:ext cx="1219320" cy="763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1523880"/>
            <a:ext cx="3809880" cy="763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1143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19954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 0+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21337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 0+25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9810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 0+05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33720" y="1981080"/>
            <a:ext cx="0" cy="2514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2057400"/>
            <a:ext cx="0" cy="2438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2209680"/>
            <a:ext cx="0" cy="2286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3352680"/>
            <a:ext cx="106668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4343400"/>
            <a:ext cx="411480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81680" y="3581280"/>
            <a:ext cx="8384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56840" y="33526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43400" y="4419720"/>
            <a:ext cx="1676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ope = 0.0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 = 0.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52480" y="3962520"/>
            <a:ext cx="1676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ope = 0.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 = 0.01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0623600">
            <a:off x="6857640" y="335232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010280" y="3580920"/>
            <a:ext cx="0" cy="83844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10280" y="38098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5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3124080"/>
            <a:ext cx="8384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623600">
            <a:off x="1828440" y="289512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28195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3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7621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ck type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n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86200" y="685800"/>
            <a:ext cx="32004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ck type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l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y low Resistance to Comp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152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of Application 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4572000"/>
            <a:ext cx="8686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out an optimum vertical alignment for the circular cross-section channel,  considering that we can not have a hydraulic jump in the reach founded 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ck due to geotechnical cond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= 20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meter = 6 m (For all reach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2529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10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28600" y="2819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30481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sting vertical al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 Trial (Existing Conditio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11936" t="4867" r="4629" b="10768"/>
          <a:stretch/>
        </p:blipFill>
        <p:spPr>
          <a:xfrm>
            <a:off x="304920" y="1362240"/>
            <a:ext cx="8534160" cy="51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2T17:19:20Z</dcterms:created>
  <dc:creator>Arthur R. Schmidt, P.E., Ph.D.</dc:creator>
  <dc:description/>
  <dc:language>en-US</dc:language>
  <cp:lastModifiedBy>adminasleon</cp:lastModifiedBy>
  <dcterms:modified xsi:type="dcterms:W3CDTF">2007-10-29T05:15:11Z</dcterms:modified>
  <cp:revision>161</cp:revision>
  <dc:subject/>
  <dc:title>Upstream</dc:title>
</cp:coreProperties>
</file>