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78B-CD08-43D9-9908-8FBAF0EC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8DD-5B44-4AEB-AF38-B6E9797F5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D24B-C97D-4490-8BE6-BD73CF924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3F01-5AA5-4B32-9BFD-08457BDCF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ADB-6CD1-40D2-A4D0-B9DC95310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7EE6-4256-4AA1-BDFC-B2EF9512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428-97D4-4EAE-85EB-0125BA4B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E819-8D5E-4FDC-89CE-D3BE030B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AAD-31D7-4FD8-8913-B597CFE8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F67F-8EEE-4D8F-AA95-A34BC27FB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0FE-62B1-489C-BBA9-34A76626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2E8-B86A-4CDF-B913-B07AC7DD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9B49-5C0C-476C-B338-DCC46277BF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52280" y="15228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About the Program Annel2 (200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: Arturo Le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 program “Annel2” computes the steady water surface pro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or circular, trapezoidal, rectangular and triangular chann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based on the Energy and Momentum equations. Gradually Va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lows are solved by using the Standard Step Method and rap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varied flows are computed by solving the Momentum equation.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friction loss method is chosen by the program according to wh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the flow is subcritical or supercrit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Some additional features of Annel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Locate hydraulic j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Handle horizontal and adverse slo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orrect the hydrostatic pressure for large slopes (chut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trial with increased roughnes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It can be an acceptable solutio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11945" t="5051" r="4629" b="10768"/>
          <a:stretch/>
        </p:blipFill>
        <p:spPr>
          <a:xfrm>
            <a:off x="609480" y="1752480"/>
            <a:ext cx="81536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318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r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7761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servoi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3048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vertic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762120"/>
            <a:ext cx="1600200" cy="6094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1219320"/>
            <a:ext cx="1600200" cy="6858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 rot="12265800">
            <a:off x="2056680" y="1294920"/>
            <a:ext cx="121932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0400" y="1523880"/>
            <a:ext cx="380988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1143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0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16765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2057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6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668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2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33720" y="1981080"/>
            <a:ext cx="0" cy="16765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2057400"/>
            <a:ext cx="0" cy="19810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81680" y="2209680"/>
            <a:ext cx="0" cy="2971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3352680"/>
            <a:ext cx="10666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51814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5812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456840" y="33526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3600" y="44197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28800" y="342900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0623600">
            <a:off x="6857640" y="33523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010280" y="3580920"/>
            <a:ext cx="0" cy="160020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10280" y="41148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259092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623600">
            <a:off x="1828440" y="236196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8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793800"/>
            <a:ext cx="297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 type:  Shale, except reach 0+250 – 0+400 (Grani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600200"/>
            <a:ext cx="0" cy="25146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1600200"/>
            <a:ext cx="0" cy="3505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3429000"/>
            <a:ext cx="83808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962520"/>
            <a:ext cx="838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0384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33920" y="190512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43400" y="22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4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895480" y="388620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0.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3719520"/>
            <a:ext cx="12193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6252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066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2438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213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5410080"/>
            <a:ext cx="8686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d out an optimum vertical alignment for the trapezoidal channel,  considering that we ca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have a hydraulic jump in the reach founded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i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rock due to geotechnical conditions. Q = 20 m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s,  Bottom width  = 5 m (For all reaches), Side slope = 2 (For all reach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8800" y="25909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1600200"/>
            <a:ext cx="0" cy="251460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3962520"/>
            <a:ext cx="990360" cy="1218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038480"/>
            <a:ext cx="167652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= 0.0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Gra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Re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23763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+4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 Trial (Existing Conditi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1922" t="5051" r="6250" b="10768"/>
          <a:stretch/>
        </p:blipFill>
        <p:spPr>
          <a:xfrm>
            <a:off x="457200" y="1744560"/>
            <a:ext cx="822960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503280"/>
            <a:ext cx="62485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utputs of the program Annel2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re Supercritical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11892" t="4137" r="5409" b="10768"/>
          <a:stretch/>
        </p:blipFill>
        <p:spPr>
          <a:xfrm>
            <a:off x="609480" y="1219320"/>
            <a:ext cx="8077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c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4081" t="3783" r="2040" b="3488"/>
          <a:stretch/>
        </p:blipFill>
        <p:spPr>
          <a:xfrm>
            <a:off x="380880" y="1219320"/>
            <a:ext cx="853452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0" y="503280"/>
            <a:ext cx="403848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ds - Cha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3573" t="0" r="3697" b="8637"/>
          <a:stretch/>
        </p:blipFill>
        <p:spPr>
          <a:xfrm>
            <a:off x="304920" y="1219320"/>
            <a:ext cx="84582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nds – Channels (Con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0" b="3045"/>
          <a:stretch/>
        </p:blipFill>
        <p:spPr>
          <a:xfrm>
            <a:off x="304920" y="1295280"/>
            <a:ext cx="8534160" cy="49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 in Circular Cross-Section Cond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1308" t="4867" r="5264" b="10768"/>
          <a:stretch/>
        </p:blipFill>
        <p:spPr>
          <a:xfrm>
            <a:off x="457200" y="1447920"/>
            <a:ext cx="8458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 rot="1912200">
            <a:off x="2362320" y="3124080"/>
            <a:ext cx="5410080" cy="152640"/>
          </a:xfrm>
          <a:custGeom>
            <a:avLst/>
            <a:gdLst>
              <a:gd name="textAreaLeft" fmla="*/ 0 w 5410080"/>
              <a:gd name="textAreaRight" fmla="*/ 5410440 w 5410080"/>
              <a:gd name="textAreaTop" fmla="*/ 19800 h 152640"/>
              <a:gd name="textAreaBottom" fmla="*/ 132840 h 152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903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8088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AMPLE OF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19445" t="16518" r="33335" b="21750"/>
          <a:stretch/>
        </p:blipFill>
        <p:spPr>
          <a:xfrm>
            <a:off x="0" y="533520"/>
            <a:ext cx="3505320" cy="2593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029200" y="1828800"/>
            <a:ext cx="2187720" cy="13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3962520" cy="2376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58128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ircular Cross-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8600" y="31896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086600" y="776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Reservoi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762120"/>
            <a:ext cx="1600200" cy="60948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19320"/>
            <a:ext cx="1600200" cy="6858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 rot="12265800">
            <a:off x="2056680" y="1294920"/>
            <a:ext cx="121932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1523880"/>
            <a:ext cx="3809880" cy="7632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11430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600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7816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1995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21337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2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9810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 0+05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133720" y="1981080"/>
            <a:ext cx="0" cy="25146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0400" y="2057400"/>
            <a:ext cx="0" cy="2438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2209680"/>
            <a:ext cx="0" cy="2286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33720" y="3352680"/>
            <a:ext cx="1066680" cy="99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4343400"/>
            <a:ext cx="41148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81680" y="35812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56840" y="33526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44197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3962520"/>
            <a:ext cx="16765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ope = 0.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 = 0.01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0623600">
            <a:off x="6857640" y="33523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010280" y="3580920"/>
            <a:ext cx="0" cy="83844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38098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50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3124080"/>
            <a:ext cx="83844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0623600">
            <a:off x="1828440" y="2895120"/>
            <a:ext cx="304920" cy="22860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524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52480" y="2819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8195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3 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7621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 typ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an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685800"/>
            <a:ext cx="320040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ck typ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l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y low Resistance to Comp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1522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of Application (Con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4572000"/>
            <a:ext cx="8686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out an optimum vertical alignment for the circular cross-section channel,  considering that we can not have a hydraulic jump in the reach founded o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ck due to geotechnica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20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meter = 6 m (For all reach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529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10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28195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28600" y="2819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30481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isting vertical al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 Trial (Existing Conditio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1936" t="4867" r="4629" b="10768"/>
          <a:stretch/>
        </p:blipFill>
        <p:spPr>
          <a:xfrm>
            <a:off x="304920" y="1362240"/>
            <a:ext cx="8534160" cy="51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2T17:19:20Z</dcterms:created>
  <dc:creator>Arthur R. Schmidt, P.E., Ph.D.</dc:creator>
  <dc:description/>
  <dc:language>en-US</dc:language>
  <cp:lastModifiedBy>adminasleon</cp:lastModifiedBy>
  <dcterms:modified xsi:type="dcterms:W3CDTF">2007-10-29T05:15:11Z</dcterms:modified>
  <cp:revision>161</cp:revision>
  <dc:subject/>
  <dc:title>Upstream</dc:title>
</cp:coreProperties>
</file>